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ED4B-8F3D-412B-B6CF-BDA64E168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66BB-AEF8-456C-A890-A585DE3A6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F8B-ABDA-41CD-8DB1-14C34333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B04-6F27-456A-A9BB-D13DAF41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1F0-21E6-45BF-86BC-9B9C1BBA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5D0-36A8-40B4-A9B9-2791C4F6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C69-8A1D-4A09-840C-8143E985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13F-5D78-4D3E-AFEF-1DD2E2AF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B92-8F99-442F-BFFA-C4AC61F2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1CB-EEFC-4E26-B56B-53BA1D47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171-47BA-4CCC-96CB-1DBA9E01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362-7950-43B4-AFA4-EA022D1F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253-2017-4968-A768-BF016584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855-BAC3-4050-8D68-9C79B96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CA1F-F6BB-4B86-9ADB-C90B4BA81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985680" y="4241880"/>
            <a:ext cx="2281320" cy="85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3746520" y="3459240"/>
            <a:ext cx="1084320" cy="61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629160" y="51116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102280" y="555624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564240" y="516744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6778800" y="4307040"/>
            <a:ext cx="1298520" cy="52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5083200" y="4649760"/>
            <a:ext cx="1197000" cy="42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447920" y="2163600"/>
            <a:ext cx="228096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611360" y="2230560"/>
            <a:ext cx="1763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ource (sentence where you saw the word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935520" y="3591000"/>
            <a:ext cx="7696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WOR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98720" y="4319640"/>
            <a:ext cx="971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22960" y="4713120"/>
            <a:ext cx="755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805200" y="5232240"/>
            <a:ext cx="1122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ord Famili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6929280" y="4394160"/>
            <a:ext cx="1017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art of Speec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929280" y="5232240"/>
            <a:ext cx="731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tem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405400" y="5613480"/>
            <a:ext cx="881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Origi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741840" y="2946240"/>
            <a:ext cx="358560" cy="53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4401720" y="3022560"/>
            <a:ext cx="38916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724280" y="2570040"/>
            <a:ext cx="22813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5329080" y="1744560"/>
            <a:ext cx="146232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303880" y="3625920"/>
            <a:ext cx="1461960" cy="61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4862520" y="2668680"/>
            <a:ext cx="11858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efini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5556240" y="1820880"/>
            <a:ext cx="9208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Syn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5632560" y="3713040"/>
            <a:ext cx="9064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Antonym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6084720" y="23605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6035760" y="3427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H="1">
            <a:off x="3271680" y="3921120"/>
            <a:ext cx="52560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692600" y="3976560"/>
            <a:ext cx="73044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5935680" y="5104800"/>
            <a:ext cx="625320" cy="32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5713560" y="507528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6243480" y="462276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 flipH="1">
            <a:off x="4800240" y="5029200"/>
            <a:ext cx="2286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9:51Z</dcterms:created>
  <dc:creator>Kimberley Chandler</dc:creator>
  <dc:description/>
  <dc:language>en-US</dc:language>
  <cp:lastModifiedBy>Kimberley Chandler</cp:lastModifiedBy>
  <dcterms:modified xsi:type="dcterms:W3CDTF">2011-06-02T09:47:45Z</dcterms:modified>
  <cp:revision>3</cp:revision>
  <dc:subject/>
  <dc:title>Literature Web - Full Form</dc:title>
</cp:coreProperties>
</file>